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29D-8F7C-4D54-B279-DFB95722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53E-3D90-480B-9C03-E8EDEDBB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33E-B384-4C44-A0DF-07F7D078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CF0-1DAB-47E3-A371-E1F69B8C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F11-004E-4052-A465-7AD6299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F59-D948-4148-B9C7-F8CAA927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9C3-CECD-41D3-AB60-8C13B060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F0A-58E2-45DB-9630-C108717E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33A-ECA0-4CE5-8594-F2F30EB9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E60-CC2D-4B02-8360-2F5DA94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061-2AFD-4356-9242-8523826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05E-AD53-4D37-9E16-433E9AD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F824-C3C7-45A2-8C19-58CAC07A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8380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Script MT Bold"/>
              </a:rPr>
              <a:t>La Casa Para la 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562360" cy="32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cript MT Bold"/>
              </a:rPr>
              <a:t>La casa esta localizda en Hull, Ma,                  Esta en la calle 138 Samoset A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Cue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$75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1911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cript MT Bold"/>
              </a:rPr>
              <a:t>(El patio tras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441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ce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Tienen cuatro Dormito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1600200"/>
            <a:ext cx="3581640" cy="1968480"/>
            <a:chOff x="609480" y="1600200"/>
            <a:chExt cx="3581640" cy="1968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358164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609480" y="1600200"/>
              <a:ext cx="3581640" cy="196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2648160" cy="1724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2266920" cy="201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486400" y="16765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3733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El Dormitorio Principal es muy b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El Dormitorio es fabuloso y 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3733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5053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El dormitorio es nuevo y tiene dos ca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609588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El Dormitorio tiene una cama grande. Es verde y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Script MT Bold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Tien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no 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Comedor, perro es mu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rande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4724280" cy="3143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43600" y="3200400"/>
            <a:ext cx="28954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h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refrig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freg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a m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to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iene un li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Cuartos de ba</a:t>
            </a:r>
            <a:r>
              <a:rPr b="0" lang="es-ES" sz="4400" spc="-1" strike="noStrike">
                <a:solidFill>
                  <a:srgbClr val="000000"/>
                </a:solidFill>
                <a:latin typeface="Script MT Bold"/>
              </a:rPr>
              <a:t>ñ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cript MT Bold"/>
              </a:rPr>
              <a:t>hay dos baños en el segundo pis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Script MT Bold"/>
              </a:rPr>
              <a:t>                          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Script MT Bold"/>
              </a:rPr>
              <a:t>y uno en el pri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2705400" cy="1685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505320" y="35053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La casa tiene tres cuartos de 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352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cript MT Bold"/>
              </a:rPr>
              <a:t>bañera, fregadero y lav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49528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cript MT Bold"/>
              </a:rPr>
              <a:t>bañera, fregadero, shower, towels, y lav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6019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cript MT Bold"/>
              </a:rPr>
              <a:t>cortinas, bañera, y gabinete de 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b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Script MT Bold"/>
              </a:rPr>
              <a:t>Las Sa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86200" cy="273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191120" cy="271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Script MT Bold"/>
              </a:rPr>
              <a:t>Las Salas tiene </a:t>
            </a:r>
            <a:r>
              <a:rPr b="0" lang="es-ES" sz="2000" spc="-1" strike="noStrike">
                <a:solidFill>
                  <a:srgbClr val="ffffcc"/>
                </a:solidFill>
                <a:latin typeface="Script MT Bold"/>
              </a:rPr>
              <a:t>sofás, lámparas, alfombras, sillas, cuadros, radios, ventanas, y un ventil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Script MT Bold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715000" cy="428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48520" y="1523880"/>
            <a:ext cx="228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Script MT Bold"/>
              </a:rPr>
              <a:t>El comedor tiene una mesa, sillas, platos, cubiertos, servilletas, y cuandros</a:t>
            </a:r>
            <a:r>
              <a:rPr b="0" lang="en-US" sz="2400" spc="-1" strike="noStrike">
                <a:solidFill>
                  <a:srgbClr val="ff9966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El Garaje es Gran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4286160" cy="3314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32004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El garaje tiene el carro, y es muy gr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0292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ript MT Bold"/>
              </a:rPr>
              <a:t>Q</a:t>
            </a:r>
            <a:r>
              <a:rPr b="0" lang="es-ES" sz="2000" spc="-1" strike="noStrike">
                <a:solidFill>
                  <a:srgbClr val="000000"/>
                </a:solidFill>
                <a:latin typeface="Script MT Bold"/>
              </a:rPr>
              <a:t>ue puede contener dos car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4:25Z</dcterms:created>
  <dc:creator>brudnerkal</dc:creator>
  <dc:description/>
  <dc:language>en-US</dc:language>
  <cp:lastModifiedBy>BrudnerKal</cp:lastModifiedBy>
  <dcterms:modified xsi:type="dcterms:W3CDTF">2012-05-29T12:58:12Z</dcterms:modified>
  <cp:revision>4</cp:revision>
  <dc:subject/>
  <dc:title>La Casa Para la Venta</dc:title>
</cp:coreProperties>
</file>